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CHIMES.WAV" ContentType="audio/x-wav"/>
  <Override PartName="/ppt/media/image3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(1.1)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EEF-BE9B-431C-A509-B30D727E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E34-C831-465C-A386-657616F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B58-357B-4599-88A7-A3D4F90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FC8-A9A7-4714-B7C8-3785E2AD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74D-0E27-46B4-8B2F-141F08DD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9BF-FDDE-4560-8B2C-45CF9730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358-B25B-4E36-B862-62A7083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056-6137-4E63-BEEA-924869A3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75A-BB1B-4EAC-BD98-6E361073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0AC-AC84-4F0D-BC69-8F40D8F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263-5457-4FB6-8546-0781856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D92-B7F8-423C-BD6B-E9AB1C0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64FB-38AC-494F-A948-2FC96EC45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.3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4002" t="40668" r="63004" b="31332"/>
          <a:stretch/>
        </p:blipFill>
        <p:spPr>
          <a:xfrm>
            <a:off x="2362320" y="1447920"/>
            <a:ext cx="49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4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2905200" cy="539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3"/>
          <a:stretch/>
        </p:blipFill>
        <p:spPr>
          <a:xfrm>
            <a:off x="4114800" y="1905120"/>
            <a:ext cx="4608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ngth of a diag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a square is 22√2 mm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squ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8m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rcRect l="76251" t="28171" r="4376" b="60567"/>
          <a:stretch/>
        </p:blipFill>
        <p:spPr>
          <a:xfrm>
            <a:off x="1676520" y="160020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18288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752480" y="1523880"/>
            <a:ext cx="5639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247644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3"/>
          <a:stretch/>
        </p:blipFill>
        <p:spPr>
          <a:xfrm>
            <a:off x="1828800" y="838080"/>
            <a:ext cx="5475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45.4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rcRect l="81253" t="39437" r="1875" b="42053"/>
          <a:stretch/>
        </p:blipFill>
        <p:spPr>
          <a:xfrm>
            <a:off x="1066680" y="1219320"/>
            <a:ext cx="429444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5410080" y="1752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enter fielder is standing at point C, this is how far he is from Home P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ltitude of an equilat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s 7.4 meter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6.63 me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umber of poi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eded to determine a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.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7162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bout 21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8"/>
          <p:cNvCxnSpPr/>
          <p:nvPr/>
        </p:nvCxnSpPr>
        <p:spPr>
          <a:xfrm>
            <a:off x="1905120" y="2971800"/>
            <a:ext cx="541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20968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320040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TextBox 12"/>
          <p:cNvSpPr/>
          <p:nvPr/>
        </p:nvSpPr>
        <p:spPr>
          <a:xfrm>
            <a:off x="2133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1240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1055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2860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1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84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690480" y="647640"/>
            <a:ext cx="7763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.839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14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rcRect l="56878" t="60365" r="30003" b="29175"/>
          <a:stretch/>
        </p:blipFill>
        <p:spPr>
          <a:xfrm>
            <a:off x="2133720" y="2209680"/>
            <a:ext cx="3962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ength of 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3.3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20574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48006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TextBox 11"/>
          <p:cNvSpPr/>
          <p:nvPr/>
        </p:nvSpPr>
        <p:spPr>
          <a:xfrm>
            <a:off x="19810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48006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228600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7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3657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=1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864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10 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1981080" y="1106640"/>
            <a:ext cx="43815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81/440 or .8659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6432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990720" y="12952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7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207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0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4146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0.86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7526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bout 721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85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50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39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.0500 or 21/2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4005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4.5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2886120" y="1076400"/>
            <a:ext cx="33717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1447920" y="1523880"/>
            <a:ext cx="249084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42670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31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447920" y="2438280"/>
            <a:ext cx="6248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6767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8765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√2 or 11.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2"/>
          <a:srcRect l="36877" t="60365" r="56878" b="29981"/>
          <a:stretch/>
        </p:blipFill>
        <p:spPr>
          <a:xfrm>
            <a:off x="3276720" y="2057400"/>
            <a:ext cx="25905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√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838080" y="1143000"/>
            <a:ext cx="295128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175248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lane DAB (or DAC, CB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rcRect l="-237" t="0" r="-22355" b="-19002"/>
          <a:stretch/>
        </p:blipFill>
        <p:spPr>
          <a:xfrm>
            <a:off x="2133720" y="1143000"/>
            <a:ext cx="619740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133720" y="4267080"/>
            <a:ext cx="533160" cy="609840"/>
          </a:xfrm>
          <a:prstGeom prst="rect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33720" y="4267080"/>
            <a:ext cx="457200" cy="609840"/>
          </a:xfrm>
          <a:prstGeom prst="rect">
            <a:avLst/>
          </a:pr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√2 or 7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676520" y="1523880"/>
            <a:ext cx="5562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2"/>
          <a:srcRect l="76251" t="60365" r="16252" b="29981"/>
          <a:stretch/>
        </p:blipFill>
        <p:spPr>
          <a:xfrm>
            <a:off x="4038480" y="21337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8√3)/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rcRect l="76251" t="28171" r="4376" b="60567"/>
          <a:stretch/>
        </p:blipFill>
        <p:spPr>
          <a:xfrm>
            <a:off x="2357280" y="144792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523880" y="4267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Q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0-12-08T20:21:07Z</dcterms:modified>
  <cp:revision>9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